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173E-2F7D-4D3D-A164-8E5F2776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625A-F6C6-42F3-9DE6-DCAFCC84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CCFB-70F0-4E45-B486-36DF0A67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0E9B-8727-4172-8E36-4AD6EE65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6277-CBB5-48AB-B34C-D5271654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80F-C22A-4FE9-82D8-1546F89B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53A0-1E46-4331-92BA-9F0C669F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F09B-89B7-4055-B610-0BD1B47C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2C3-778F-4C33-BED8-E5F4E4CE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C9CA-375B-4CA4-AC50-60012B85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2D9A-3235-4EF2-91D4-A207E696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8C4D-AFB3-4F49-A240-32E3DE8F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7FDC-D7E9-4890-A104-FFE0E60FEA7C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11239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 Jie G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5493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PM Kheng 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HW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T Xin Juan S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SW Yang Yong Qi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48704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PM Zhang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86800" y="148284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Beijing /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0080" y="1463760"/>
            <a:ext cx="25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Aarlborg HW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3520" y="1268280"/>
            <a:ext cx="2027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Beijing/Shanghai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 Project Team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"/>
          <p:cNvSpPr/>
          <p:nvPr/>
        </p:nvSpPr>
        <p:spPr>
          <a:xfrm>
            <a:off x="170640" y="80964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tatus 21 Feb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358128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467676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05440" y="3686040"/>
            <a:ext cx="0" cy="34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48200" y="36766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5332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61048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552840"/>
            <a:ext cx="0" cy="113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7840" y="4676760"/>
            <a:ext cx="33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784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0960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7640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2896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90960" y="1924200"/>
            <a:ext cx="0" cy="77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5720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6560" y="2705040"/>
            <a:ext cx="822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9476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OM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. Niel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78480" y="3941640"/>
            <a:ext cx="79200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CM3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K. Hil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27620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762360" y="269568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066760" y="269568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91456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58136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43888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24852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0" y="295740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SO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.L. Thom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44760" y="2957400"/>
            <a:ext cx="79236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SW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Yang Y.Q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85880" y="295740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QM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T. Bartel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. Sonderga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2957400"/>
            <a:ext cx="79200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MD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. P. Niel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79960" y="2957400"/>
            <a:ext cx="79200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T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i Y.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Wei X.K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14800" y="295740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E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. Svend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43520" y="2967120"/>
            <a:ext cx="792360" cy="63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HW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. E. Ra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70120" y="2957400"/>
            <a:ext cx="79200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CM/IM/DL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 Ha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06752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85808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869616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84840" y="2967120"/>
            <a:ext cx="792360" cy="63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GRM R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 Spri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10320" y="2967120"/>
            <a:ext cx="792360" cy="630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D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 Maierho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19960" y="2967120"/>
            <a:ext cx="792360" cy="63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I2P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. E. Ra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00440" y="394164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CM1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J. Rie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91040" y="2705040"/>
            <a:ext cx="0" cy="128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89640" y="3941640"/>
            <a:ext cx="79200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QA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Hu X.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95720" y="3686040"/>
            <a:ext cx="17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0360" y="4888080"/>
            <a:ext cx="755640" cy="48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W </a:t>
            </a:r>
            <a:br>
              <a:rPr sz="1000"/>
            </a:b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ure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. Burk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22320" y="4888080"/>
            <a:ext cx="75564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1 /HW </a:t>
            </a:r>
            <a:br>
              <a:rPr sz="1000"/>
            </a:b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el. SW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44560" y="4888080"/>
            <a:ext cx="75564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rotoco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tack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67160" y="4888080"/>
            <a:ext cx="755640" cy="48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equirement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Huang Q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56000" y="4888080"/>
            <a:ext cx="755640" cy="48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M-P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a Y.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488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0084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0552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3868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F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. Bram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2752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HW </a:t>
            </a:r>
            <a:br>
              <a:rPr sz="1000"/>
            </a:b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aseband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F.B. Krist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PD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. B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0556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A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B.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Krist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6440" y="1541520"/>
            <a:ext cx="118116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PM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Zhang 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72080" y="1598760"/>
            <a:ext cx="971640" cy="563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-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.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9680" y="1598760"/>
            <a:ext cx="971640" cy="56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-T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ong X.Y.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.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04920" y="1598760"/>
            <a:ext cx="971640" cy="56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in Y.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52520" y="1598760"/>
            <a:ext cx="971640" cy="56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Koh K.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72280" y="5865840"/>
            <a:ext cx="644400" cy="173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Minion"/>
                <a:ea typeface="文鼎中黑"/>
              </a:rPr>
              <a:t>A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75520" y="6122880"/>
            <a:ext cx="644400" cy="17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Minion"/>
                <a:ea typeface="文鼎中黑"/>
              </a:rPr>
              <a:t>BE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69040" y="6380280"/>
            <a:ext cx="644400" cy="172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Minion"/>
                <a:ea typeface="文鼎中黑"/>
              </a:rPr>
              <a:t>KLF / M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62760" y="722160"/>
            <a:ext cx="971640" cy="5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Key Customer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. Bar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10360" y="722160"/>
            <a:ext cx="971640" cy="5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. Lut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9572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Project Pla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6134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804960"/>
            <a:ext cx="847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6332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78440" y="763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52160" y="7635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86360" y="76356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1800" y="7635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46320" y="76356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4596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13920" y="76356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476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4600" y="1033560"/>
            <a:ext cx="84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3720" y="792000"/>
            <a:ext cx="0" cy="5315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75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7360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6244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5164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4048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31120" y="7905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2176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120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3720" y="1096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8420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84280" y="11095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69640" y="1096920"/>
            <a:ext cx="3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13600" y="1096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9240" y="10969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3/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364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067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9556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476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95480" y="1650960"/>
            <a:ext cx="1587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11520" y="1650960"/>
            <a:ext cx="1158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08520" y="1650960"/>
            <a:ext cx="12636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99120" y="1650960"/>
            <a:ext cx="1320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91400" y="1650960"/>
            <a:ext cx="930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mp-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9558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2096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755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72088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1213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0865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651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039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686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85760" y="1484280"/>
            <a:ext cx="0" cy="467856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27320" y="14716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8604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5120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3872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03880" y="14590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342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2964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29320" y="1695600"/>
            <a:ext cx="2635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ilot R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76400" y="2212920"/>
            <a:ext cx="7398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e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35280" y="2212920"/>
            <a:ext cx="9777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32120" y="2212920"/>
            <a:ext cx="9399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ard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440" y="2212920"/>
            <a:ext cx="13111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43680" y="2212920"/>
            <a:ext cx="13395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8260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0168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3048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5136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14560" y="3252960"/>
            <a:ext cx="95868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c simu set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-up / power on dialo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hone spaces, colour schemes, icons, fo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and feel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and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 or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049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/ power on dialog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.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lume Side, Ringer Side &amp; and lock k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ync. incl. remote sy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s full fun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&amp; Feel – full compli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itions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14720" y="3252960"/>
            <a:ext cx="93996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nterruption by ev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leep mode with timer 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Text messages (S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hover functionality in Contact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2714760"/>
            <a:ext cx="8077320" cy="936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480" y="1690560"/>
            <a:ext cx="101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9556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488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7512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60800" y="5891040"/>
            <a:ext cx="839880" cy="177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35600" y="5888160"/>
            <a:ext cx="1362240" cy="188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10320" y="5327640"/>
            <a:ext cx="1316160" cy="39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Global SW 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043760" y="559044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280" y="2246400"/>
            <a:ext cx="1064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800" y="2854440"/>
            <a:ext cx="925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Vodafone Approval plan (SGL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1348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269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275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03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Selma Samrowski</cp:lastModifiedBy>
  <dcterms:modified xsi:type="dcterms:W3CDTF">2006-02-21T17:16:25Z</dcterms:modified>
  <cp:revision>169</cp:revision>
  <dc:subject/>
  <dc:title>PowerPoint</dc:title>
</cp:coreProperties>
</file>